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whoosh.wav" ContentType="audio/x-wav"/>
  <Override PartName="/ppt/media/image7.jpeg" ContentType="image/jpeg"/>
  <Override PartName="/ppt/media/image5.jpeg" ContentType="image/jpeg"/>
  <Override PartName="/ppt/media/type.wav" ContentType="audio/x-wav"/>
  <Override PartName="/ppt/media/image13.jpeg" ContentType="image/jpeg"/>
  <Override PartName="/ppt/media/laser.wav" ContentType="audio/x-wav"/>
  <Override PartName="/ppt/media/image4.jpeg" ContentType="image/jpeg"/>
  <Override PartName="/ppt/media/carbrake.wav" ContentType="audio/x-wav"/>
  <Override PartName="/ppt/media/image3.jpeg" ContentType="image/jpeg"/>
  <Override PartName="/ppt/media/image12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414-8E18-4647-A620-A5E9FDB1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F40-5E56-4BAA-A4EE-F978D58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7F5-B27D-488C-8A6F-66DB5FDE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552-9FE0-4C64-90C7-ECBF85BE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078-0CCB-4D90-AA5C-651E66A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C8C-04CD-44B7-A207-92894E6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F5E-D2A6-47CB-B25C-2FAE446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8D9-0F57-4AF9-A8F5-B381F8D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8DB-5652-4E7F-B580-5DB405FF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605-1B9F-4404-B2D3-87A4E03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358-6FE7-4F9A-80A9-688FDD4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A07-4B54-4B6E-B2BA-E8424FD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79AE-DC61-4CFF-B132-A14CD412A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94360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533520"/>
            <a:ext cx="7620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uando ingrese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tu lugar de trabaj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6324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Ora y pide iluminación  de Dios Todo Poderos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r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55308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81280" y="4952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                    Toleranci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572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prende, que no todos se encuentran en la misma sinton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ull dir="lu"/>
    <p:sndAc>
      <p:stSnd>
        <p:snd r:embed="rId2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934320" cy="616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ibe las bendiciones con gratitu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411480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Humil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horz"/>
    <p:sndAc>
      <p:stSnd>
        <p:snd r:embed="rId2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762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Dios está conti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ookman Old Style"/>
              </a:rPr>
              <a:t>¡¡¡Eso se llama AMOR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ru"/>
    <p:sndAc>
      <p:stSnd>
        <p:snd r:embed="rId2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¡Que cada día de trabajo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incremente tu entusiasmo de vivir 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y no solamente tu edad!</a:t>
            </a:r>
            <a:r>
              <a:rPr b="0" i="1" lang="pt-BR" sz="40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578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81480" y="2286000"/>
            <a:ext cx="3733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0" y="53316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aluda a tus coleg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4197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Amist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vert"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181480" cy="632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05740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rinda a cada uno, lo mejor de ti mism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Sinceri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in"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3152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380880"/>
            <a:ext cx="39625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labora tu agenda y programa tu d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57440" y="48002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Reflex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68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0492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00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Ac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3352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hora, con todo planeado... ¡Comienza a trabajar!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trips dir="ld"/>
    <p:sndAc>
      <p:stSnd>
        <p:snd r:embed="rId2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267080" cy="594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76212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credita que todo saldrá bie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41148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               se llama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                               F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58676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5257800"/>
            <a:ext cx="5105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Entusia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5720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aliza todo con alegrí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1350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701064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5257800"/>
            <a:ext cx="6172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Perfec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2286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o mejor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t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yuda a las personas que poseen más dificultades que tú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91476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¡Eso se llama </a:t>
            </a:r>
            <a:br>
              <a:rPr sz="4000"/>
            </a:br>
            <a:r>
              <a:rPr b="0" i="1" lang="pt-BR" sz="4000" spc="-1" strike="noStrike">
                <a:solidFill>
                  <a:srgbClr val="3333cc"/>
                </a:solidFill>
                <a:latin typeface="Bookman Old Style"/>
              </a:rPr>
              <a:t>Fraternida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horz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ENA</cp:lastModifiedBy>
  <dcterms:modified xsi:type="dcterms:W3CDTF">2004-05-07T17:41:20Z</dcterms:modified>
  <cp:revision>12</cp:revision>
  <dc:subject/>
  <dc:title>Slide sem título </dc:title>
</cp:coreProperties>
</file>